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3.gif" ContentType="image/gif"/>
  <Override PartName="/ppt/media/image5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10.wmf" ContentType="image/x-wmf"/>
  <Override PartName="/ppt/media/image8.jpeg" ContentType="image/jpeg"/>
  <Override PartName="/ppt/media/image9.jpeg" ContentType="image/jpeg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EE4B-EA9E-46F8-B754-42B02BB88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E743-04CE-4F5F-8517-708CBD649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B188-8EDD-4131-87EF-AE40BA861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2FFD-978A-4C4A-8EED-5A1492C8B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9ED70A-40D2-4DA6-8A7B-106329BE6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620DCC-325A-4376-957D-B923F877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B20764-47CB-47B3-8AB5-93887303E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896B8F-B5B4-445C-97CF-26384D6E6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7AF271-3649-4897-89D4-324245AFE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B0B533-E006-4F15-BE2A-634EE4F5E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201996-22AD-4453-8443-2EA8AC74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E2AC-2A2F-44A9-86F9-0F3EF0AAC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8F5E23-6160-4A86-B708-91D77198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E879C7-E9F2-4BA4-9983-F4900FEC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38B3B7-F47A-45C7-8FF7-528779F1A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D41CF6-32C2-40CD-B861-8FEE3F3EF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B00180-B6D3-41A9-911F-4BA10FD2F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EE02-FE7A-44CE-8604-19C7D3BD2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EEA2-EADC-4DBE-A27C-26C2F3F5C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0E55-721C-4971-A054-BC6FE2B4C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EC17-3B79-4312-B2BB-83FB89119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4C37-8ECF-4ABB-A2D5-7198801B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550F-D018-4B7A-8B5C-31054782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6E75-4765-4D01-B097-A7E3ABEF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50321-0519-475D-9FFA-80E1B137983C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7DCF1-8B0F-494C-B509-F0792D29B688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e3e3ff"/>
                </a:solidFill>
                <a:latin typeface="Arial"/>
              </a:rPr>
              <a:t>Life education by </a:t>
            </a:r>
            <a:br>
              <a:rPr sz="5400"/>
            </a:br>
            <a:r>
              <a:rPr b="0" lang="en-NZ" sz="5400" spc="-1" strike="noStrike">
                <a:solidFill>
                  <a:srgbClr val="e3e3ff"/>
                </a:solidFill>
                <a:latin typeface="Arial"/>
              </a:rPr>
              <a:t>Ben and Dom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3" name="Picture 4" descr="DSC05821 (Small)"/>
          <p:cNvPicPr/>
          <p:nvPr/>
        </p:nvPicPr>
        <p:blipFill>
          <a:blip r:embed="rId1"/>
          <a:stretch/>
        </p:blipFill>
        <p:spPr>
          <a:xfrm>
            <a:off x="1908000" y="2708280"/>
            <a:ext cx="482472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People who did life educa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The people who did life education were called Celia and Harold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7" descr="DSC05822 (Small)"/>
          <p:cNvPicPr/>
          <p:nvPr/>
        </p:nvPicPr>
        <p:blipFill>
          <a:blip r:embed="rId1"/>
          <a:srcRect l="19484" t="14823" r="39751" b="19430"/>
          <a:stretch/>
        </p:blipFill>
        <p:spPr>
          <a:xfrm>
            <a:off x="5580000" y="1557360"/>
            <a:ext cx="244656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What we did on the first da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Arial"/>
              </a:rPr>
              <a:t>This is the life education caravan on the first day. Inside the caravan is where we do life educat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7" descr="DSC05839 (Small)"/>
          <p:cNvPicPr/>
          <p:nvPr/>
        </p:nvPicPr>
        <p:blipFill>
          <a:blip r:embed="rId1"/>
          <a:stretch/>
        </p:blipFill>
        <p:spPr>
          <a:xfrm>
            <a:off x="4716360" y="1557360"/>
            <a:ext cx="3959280" cy="44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e3e3ff"/>
                </a:solidFill>
                <a:latin typeface="Arial"/>
              </a:rPr>
              <a:t>These are the people from our class who became doctors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7" descr="DSC05845 (Small)"/>
          <p:cNvPicPr/>
          <p:nvPr/>
        </p:nvPicPr>
        <p:blipFill>
          <a:blip r:embed="rId1"/>
          <a:stretch/>
        </p:blipFill>
        <p:spPr>
          <a:xfrm>
            <a:off x="4859280" y="3860640"/>
            <a:ext cx="3848040" cy="2737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DSC05846 (Small)"/>
          <p:cNvPicPr/>
          <p:nvPr/>
        </p:nvPicPr>
        <p:blipFill>
          <a:blip r:embed="rId2"/>
          <a:stretch/>
        </p:blipFill>
        <p:spPr>
          <a:xfrm>
            <a:off x="468360" y="4076640"/>
            <a:ext cx="4390920" cy="2519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DSC05850 (Small)"/>
          <p:cNvPicPr/>
          <p:nvPr/>
        </p:nvPicPr>
        <p:blipFill>
          <a:blip r:embed="rId3"/>
          <a:stretch/>
        </p:blipFill>
        <p:spPr>
          <a:xfrm>
            <a:off x="4427640" y="1528920"/>
            <a:ext cx="4195800" cy="2504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2" descr="DSC05851 (Small)"/>
          <p:cNvPicPr/>
          <p:nvPr/>
        </p:nvPicPr>
        <p:blipFill>
          <a:blip r:embed="rId4"/>
          <a:stretch/>
        </p:blipFill>
        <p:spPr>
          <a:xfrm>
            <a:off x="539640" y="1484280"/>
            <a:ext cx="388800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The brai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8" name="Picture 12" descr="DSC05860 (Small)"/>
          <p:cNvPicPr/>
          <p:nvPr/>
        </p:nvPicPr>
        <p:blipFill>
          <a:blip r:embed="rId1"/>
          <a:stretch/>
        </p:blipFill>
        <p:spPr>
          <a:xfrm>
            <a:off x="1042920" y="1268280"/>
            <a:ext cx="7058160" cy="4942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DSC05861 (Small)"/>
          <p:cNvPicPr/>
          <p:nvPr/>
        </p:nvPicPr>
        <p:blipFill>
          <a:blip r:embed="rId2"/>
          <a:srcRect l="66675" t="38573" r="20215" b="55359"/>
          <a:stretch/>
        </p:blipFill>
        <p:spPr>
          <a:xfrm>
            <a:off x="2484360" y="2781360"/>
            <a:ext cx="489744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5" descr="MC900286930[1]"/>
          <p:cNvPicPr/>
          <p:nvPr/>
        </p:nvPicPr>
        <p:blipFill>
          <a:blip r:embed="rId1"/>
          <a:stretch/>
        </p:blipFill>
        <p:spPr>
          <a:xfrm>
            <a:off x="1332000" y="2492280"/>
            <a:ext cx="6107040" cy="2165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7" descr="MC900383230[1]"/>
          <p:cNvPicPr/>
          <p:nvPr/>
        </p:nvPicPr>
        <p:blipFill>
          <a:blip r:embed="rId2"/>
          <a:stretch/>
        </p:blipFill>
        <p:spPr>
          <a:xfrm>
            <a:off x="6804000" y="1125360"/>
            <a:ext cx="1820880" cy="16783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" descr="MC900105224[1]"/>
          <p:cNvPicPr/>
          <p:nvPr/>
        </p:nvPicPr>
        <p:blipFill>
          <a:blip r:embed="rId3"/>
          <a:stretch/>
        </p:blipFill>
        <p:spPr>
          <a:xfrm>
            <a:off x="324000" y="1052640"/>
            <a:ext cx="1830240" cy="16984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9" descr="MM900223751[1]"/>
          <p:cNvPicPr/>
          <p:nvPr/>
        </p:nvPicPr>
        <p:blipFill>
          <a:blip r:embed="rId4"/>
          <a:stretch/>
        </p:blipFill>
        <p:spPr>
          <a:xfrm>
            <a:off x="2627280" y="5129280"/>
            <a:ext cx="29527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7T19:39:30Z</dcterms:created>
  <dc:creator>waka</dc:creator>
  <dc:description/>
  <dc:language>en-US</dc:language>
  <cp:lastModifiedBy>Morgan</cp:lastModifiedBy>
  <dcterms:modified xsi:type="dcterms:W3CDTF">2014-03-05T23:35:24Z</dcterms:modified>
  <cp:revision>4</cp:revision>
  <dc:subject/>
  <dc:title>Life education by Ben and Dom</dc:title>
</cp:coreProperties>
</file>